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8C2-E840-4D1C-91D0-AE85A1EF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D15-DA69-4955-B9D5-17CEC057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32C-4A01-4B1F-B604-A49D69D5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2C7-7E30-4DD7-B011-21E4CD4D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DEA6-0764-4592-B974-9529A6F2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D2D3-0885-4446-B1D9-2E8265D2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E5A2-C4AD-4910-930A-7A0ED37D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FBA5-C573-41CB-8BCF-6BAFE64F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8F81-4866-404E-A47A-6A318BA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110A-C9D3-4779-8C5E-F73D1119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105B-5F9D-4F9C-82F1-68D55CB3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45D-6403-4F65-A477-15C6760F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D6F2-0737-47D4-9B6D-B4790AB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96A0-11A1-442D-A2A0-4766871B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736C-7206-434E-9C77-BEEF315D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36CB-B2E1-4CF6-832A-BC179219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E442-6992-497C-9254-D4866E0B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B06-6B43-4E27-8ADE-CA8D654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D9C-85FF-4BD0-87C0-75369506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354-A663-4D02-ABC6-039B634F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832-63EC-447B-BF26-E9A8BC34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864-230C-469E-A9FA-4C13EAA1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C29-C530-445D-99BB-A4E41DB9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383-7226-4F68-9F2D-81695460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A4B0-FC04-48A1-B0C1-76A0C81FE437}" type="slidenum">
              <a:rPr b="0" lang="ar-Q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7035-0747-484F-AEEE-47FD62649524}" type="slidenum">
              <a:rPr b="0" lang="ar-Q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Designing and Analyz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Questionnaire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r. Ge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ducation Instit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Closed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ank Order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ents place things in or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Comic Sans MS"/>
              </a:rPr>
              <a:t>Which activities do you like to do in your spare time? Place a “1” next to the activity that you like to do most, a “2” by the next favorite, and so on to the least favori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Watch T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R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Visit frien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Surf the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S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Closed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ating Scale (Semantic Differentia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 called a “Likert Scal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a statement; choose your response along a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My students are motivated to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050920" y="4941720"/>
          <a:ext cx="6193080" cy="648000"/>
        </p:xfrm>
        <a:graphic>
          <a:graphicData uri="http://schemas.openxmlformats.org/drawingml/2006/table">
            <a:tbl>
              <a:tblPr/>
              <a:tblGrid>
                <a:gridCol w="1238400"/>
                <a:gridCol w="1238400"/>
                <a:gridCol w="1239840"/>
                <a:gridCol w="1238040"/>
                <a:gridCol w="12384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Not 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trongly 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Open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38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explore topics in-dep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s people a chance to respond in det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time-consuming to summarize and analy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Open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3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en-ended Qu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What changes would you like to see in our science clas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m Plus Qu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Some things I would like to see change in our </a:t>
            </a: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science class are 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Demographic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mographic questions may ask about personal characteristics such as -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ni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Scal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-level (yes/no; agree/disagre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level (yes/no/not su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-level (Likert scale – Strongly Agree, Agree, Undecided, Disagree, Strongly Disagre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r scales are difficult to analy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Effects of Scal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73160"/>
            <a:ext cx="74865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olice need to do a better job of enforcing traffic law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59280" y="2924280"/>
          <a:ext cx="3771720" cy="73656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059280" y="4365720"/>
          <a:ext cx="3771720" cy="150480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  <a:gridCol w="1257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ither Agree or 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1258920" y="3141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49338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59280" y="2924280"/>
          <a:ext cx="3771720" cy="73656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1258920" y="3141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Effects of Scal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olice need to do a better job of enforcing traffic law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87280" y="2924280"/>
          <a:ext cx="6978600" cy="1336680"/>
        </p:xfrm>
        <a:graphic>
          <a:graphicData uri="http://schemas.openxmlformats.org/drawingml/2006/table">
            <a:tbl>
              <a:tblPr/>
              <a:tblGrid>
                <a:gridCol w="1395720"/>
                <a:gridCol w="1395720"/>
                <a:gridCol w="1395720"/>
                <a:gridCol w="1395720"/>
                <a:gridCol w="139572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dec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258920" y="45021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Problems to Avoid in Writing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ading Questions (Loaded Questions or Biased Questio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Don’t you agree that discipline is a major problem in this scho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Do you believe it is all right to spank young children despite the SEC recommendations not to do s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Problems to Avoid in Writing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755820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uble-Barreled Questions (asking two things in one questi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Did this class increase your interest in science and motivate you to study har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Do you agree that pay is low for teachers and that the government should be working hard to increase 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cc"/>
                </a:solidFill>
                <a:latin typeface="Comic Sans MS"/>
              </a:rPr>
              <a:t>Purpose of Questionnaire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naires are the most common data collection methods used in research.  They can be used to asses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in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Problems to Avoid in Writing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755820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clear or ambiguous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What do you think about school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What role should the principal play in educating studen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Problems to Avoid in Writing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5582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lo Effect (questions that link a position to a particular person or grou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Do you agree with the Emir that research should be one of the top priorities of Qata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Qatar Petroleum wants the Independent Schools to do a better job of teaching science so that students are prepared for the workplace. Would you agre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Problems to Avoid in Writing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5582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vasive questions about personal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Do you ever argue with your paren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What are the major problems in your hom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ips for Creating Good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5582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now your aud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hat the length, content, and wording matches the intended aud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questions clear and conc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technical wor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ips for Creating Good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846440"/>
            <a:ext cx="7558200" cy="30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certain of your go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fore you start writing questions, be clear in your own mind what you want to find 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ips for Creating Good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846440"/>
            <a:ext cx="7558200" cy="30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ke the directions and format clear and easy to fol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-17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your directions and demographic questions at   the beginning of the questionnai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-17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possible, read and explain the directions or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ips for Creating Good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846080"/>
            <a:ext cx="79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y the questionnaire out before you us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-17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 similar group that is not in your stu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-17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them to read the questionnaire and tell you if something is not cle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-17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se your questions based on the information you get from your tryou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ips for Creating Good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846440"/>
            <a:ext cx="7558200" cy="35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n’t ask too many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your questionnaire short and to the 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ople get tired and lose interest on long questionnaires so the responses you get toward the end may not be vali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Ways to Deliver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846080"/>
            <a:ext cx="75582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-1767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per-pencil/face-to-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-1767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l or take h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-1767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-1767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ine delivery and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Ways to Analyze The Results of a Structure Questionnair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846080"/>
            <a:ext cx="75582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mmarize the percentages for each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Comic Sans MS"/>
              </a:rPr>
              <a:t>Students should be required to wear uniforms to sch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71640" y="3963960"/>
          <a:ext cx="6978240" cy="1336680"/>
        </p:xfrm>
        <a:graphic>
          <a:graphicData uri="http://schemas.openxmlformats.org/drawingml/2006/table">
            <a:tbl>
              <a:tblPr/>
              <a:tblGrid>
                <a:gridCol w="1395720"/>
                <a:gridCol w="1395720"/>
                <a:gridCol w="1395360"/>
                <a:gridCol w="1395720"/>
                <a:gridCol w="139572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dec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7705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Advantages and Disadvantage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5717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ssess a large group quick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 to analyze if constructed correc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“good” language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people give answers they think you w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very good for getting in-depth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Ways to Analyze The Results of a Structure Questionnair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846080"/>
            <a:ext cx="75582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lculate the mean (average) for each i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Comic Sans MS"/>
              </a:rPr>
              <a:t>Students should be required to wear uniforms to sch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71640" y="3357720"/>
          <a:ext cx="6978600" cy="1638000"/>
        </p:xfrm>
        <a:graphic>
          <a:graphicData uri="http://schemas.openxmlformats.org/drawingml/2006/table">
            <a:tbl>
              <a:tblPr/>
              <a:tblGrid>
                <a:gridCol w="1395360"/>
                <a:gridCol w="1395360"/>
                <a:gridCol w="1397160"/>
                <a:gridCol w="1395360"/>
                <a:gridCol w="1395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dec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Ways to Analyze The Results of a Structured Questionnair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846080"/>
            <a:ext cx="75582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lculate the mean (average) for each i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x 5 = 10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40 / 100 = 3.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 x 4 = 16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x 3 =   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x 2 =   2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10 x 1 =    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788000" y="2781360"/>
            <a:ext cx="79200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0" y="3860640"/>
            <a:ext cx="504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3708360" y="522936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493236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mic Sans MS"/>
              </a:rPr>
              <a:t>3.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219640" y="522936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ays to Analyze The Results of an Unstructured Questionnaire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846080"/>
            <a:ext cx="75582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arize the com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for patterns or themes that run through the com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percentages for major the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7705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Types of Questionnaire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339920"/>
            <a:ext cx="7696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uctu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ents select a response from those giv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structu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ents create a respon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bin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ins structured and unstructured i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Sample Structured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Questionnaire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1571760"/>
            <a:ext cx="792180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y did you choose teaching as a career? Tick each reason that applies to you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___ I like working with childr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___ The pay is better than most job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___ I can help my country and socie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___ It is a safe profession for wom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Sample Unstructured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Questionnaire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716120"/>
            <a:ext cx="792180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y did you choose teaching as a career? In the space below give the reasons why you chose to become a teac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332000" y="3284640"/>
            <a:ext cx="640872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04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d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ices are provided to the respond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ents must create respo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mographic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about the characteristics of the respond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Closed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025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chotomous Questions (2 choic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/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ree/Disagr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Do you think a paper recycling program should be started in your school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Yes</a:t>
            </a: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Closed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90160" y="1341000"/>
            <a:ext cx="7629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ltiple-choice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respondents op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ask for single or multiple answ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Comic Sans MS"/>
              </a:rPr>
              <a:t>How did you hear about our Websit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Newspap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Magaz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Rad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Other: Please specify 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18:29Z</dcterms:created>
  <dc:creator>Gene</dc:creator>
  <dc:description/>
  <dc:language>en-US</dc:language>
  <cp:lastModifiedBy>Gene</cp:lastModifiedBy>
  <dcterms:modified xsi:type="dcterms:W3CDTF">2008-02-25T18:24:28Z</dcterms:modified>
  <cp:revision>42</cp:revision>
  <dc:subject/>
  <dc:title>Designing and Analyzing Questionnai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